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697-D364-40B9-9CB7-DE6E43C94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2CDB-574C-4FC2-9427-91DF1B681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E948-55E3-4C97-8F51-37FB7A845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54BE-228F-459E-8559-F9C7AEB81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CACB-3739-4E5D-925B-41F7BB113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D7FA-FF19-4401-90F9-0FEDC22F8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3B37-E560-412B-84F6-E9CB43CC8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BE81-7E21-4785-A43A-ED7ED3EA2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642-8A38-4042-8DE9-13CFC472F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9BE5-EDAB-49C1-86F8-D35D74C5E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6D06-0292-46EB-89B2-EC36785FC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061-C165-438A-BD02-C0FD6CF14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ADF-4679-4527-9EA9-47853631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7AC-6C41-4059-8A9C-77D91EA5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EDA-A59D-4897-B4AB-3CD38303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31E-D6D0-4591-B0B4-3AF7ED3A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491-93E1-45AB-841D-BD384FE4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A86-940F-4F08-B156-13E4DDA6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BA2-5AE0-4F98-BD3F-83397036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BC1-5EDA-437B-AF21-40FB747A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CF1-A792-4D0C-9756-DF00A838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BE9-8A31-438B-820C-BA967EAD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1F7-275B-4305-8EA9-74DC8DE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4D0-2346-4CEE-9F6B-E96B597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4871-60DE-4CCD-B895-919C70667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C00946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884760" y="5654520"/>
            <a:ext cx="1407960" cy="79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402160" y="5670720"/>
            <a:ext cx="89856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4"/>
          <a:stretch/>
        </p:blipFill>
        <p:spPr>
          <a:xfrm>
            <a:off x="6489720" y="5710320"/>
            <a:ext cx="819000" cy="743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5"/>
          <a:stretch/>
        </p:blipFill>
        <p:spPr>
          <a:xfrm>
            <a:off x="7451640" y="5823000"/>
            <a:ext cx="1513080" cy="558720"/>
          </a:xfrm>
          <a:prstGeom prst="rect">
            <a:avLst/>
          </a:prstGeom>
          <a:ln w="0">
            <a:noFill/>
          </a:ln>
        </p:spPr>
      </p:pic>
      <p:sp>
        <p:nvSpPr>
          <p:cNvPr id="53" name="21 CuadroTexto"/>
          <p:cNvSpPr/>
          <p:nvPr/>
        </p:nvSpPr>
        <p:spPr>
          <a:xfrm>
            <a:off x="179280" y="56736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Master Interuniversitario en Restauraci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ón de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2009 -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539640" y="2060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Verdana"/>
                <a:ea typeface="Verdana"/>
              </a:rPr>
              <a:t>Reintroducci</a:t>
            </a:r>
            <a:r>
              <a:rPr b="1" lang="es-ES" sz="2800" spc="-1" strike="noStrike">
                <a:solidFill>
                  <a:srgbClr val="262626"/>
                </a:solidFill>
                <a:latin typeface="Verdana"/>
                <a:ea typeface="Verdana"/>
              </a:rPr>
              <a:t>ón de </a:t>
            </a:r>
            <a:r>
              <a:rPr b="1" i="1" lang="es-ES" sz="2800" spc="-1" strike="noStrike">
                <a:solidFill>
                  <a:srgbClr val="262626"/>
                </a:solidFill>
                <a:latin typeface="Verdana"/>
                <a:ea typeface="Verdana"/>
              </a:rPr>
              <a:t>Araucaria angustifolia</a:t>
            </a:r>
            <a:r>
              <a:rPr b="1" lang="es-ES" sz="2800" spc="-1" strike="noStrike">
                <a:solidFill>
                  <a:srgbClr val="262626"/>
                </a:solidFill>
                <a:latin typeface="Verdana"/>
                <a:ea typeface="Verdana"/>
              </a:rPr>
              <a:t> en el Refugio Biológico Carapa, Paragu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8 CuadroTexto"/>
          <p:cNvSpPr/>
          <p:nvPr/>
        </p:nvSpPr>
        <p:spPr>
          <a:xfrm>
            <a:off x="2340000" y="4292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Verdana"/>
              </a:rPr>
              <a:t>María Lidia Aranda Espin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CuadroTexto"/>
          <p:cNvSpPr/>
          <p:nvPr/>
        </p:nvSpPr>
        <p:spPr>
          <a:xfrm>
            <a:off x="250920" y="3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  <a:ea typeface="Verdana"/>
              </a:rPr>
              <a:t>Agradecimientos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3 CuadroTexto"/>
          <p:cNvSpPr/>
          <p:nvPr/>
        </p:nvSpPr>
        <p:spPr>
          <a:xfrm>
            <a:off x="684360" y="1413000"/>
            <a:ext cx="69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AL Ing. For. Jorge Pinazz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Universidad Nacional de As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A  la Ing. For. Lidia Pérez de Molas, Universidad Nacional de As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Al Prof. Giovanni Fe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Universidad de Sao Pa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DSC00946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2 CuadroTexto"/>
          <p:cNvSpPr/>
          <p:nvPr/>
        </p:nvSpPr>
        <p:spPr>
          <a:xfrm>
            <a:off x="971640" y="52293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  <a:ea typeface="Verdana"/>
              </a:rPr>
              <a:t>MUCHAS GRACIAS POR LA ATEN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0" y="54936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Verdana"/>
              </a:rPr>
              <a:t>. Problemática de </a:t>
            </a:r>
            <a:r>
              <a:rPr b="1" i="1" lang="es-ES" sz="2200" spc="-1" strike="noStrike">
                <a:solidFill>
                  <a:srgbClr val="ffffff"/>
                </a:solidFill>
                <a:latin typeface="Verdana"/>
                <a:ea typeface="Verdana"/>
              </a:rPr>
              <a:t>Araucaria angustifolia 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Verdana"/>
              </a:rPr>
              <a:t>en Paragu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proceso_deforestacion.jpg"/>
          <p:cNvPicPr/>
          <p:nvPr/>
        </p:nvPicPr>
        <p:blipFill>
          <a:blip r:embed="rId1"/>
          <a:stretch/>
        </p:blipFill>
        <p:spPr>
          <a:xfrm>
            <a:off x="755640" y="1197000"/>
            <a:ext cx="7516800" cy="5087880"/>
          </a:xfrm>
          <a:prstGeom prst="rect">
            <a:avLst/>
          </a:prstGeom>
          <a:ln w="0">
            <a:noFill/>
          </a:ln>
        </p:spPr>
      </p:pic>
      <p:sp>
        <p:nvSpPr>
          <p:cNvPr id="58" name="3 Rectángulo"/>
          <p:cNvSpPr/>
          <p:nvPr/>
        </p:nvSpPr>
        <p:spPr>
          <a:xfrm>
            <a:off x="684360" y="5516640"/>
            <a:ext cx="7559640" cy="79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Deforestación (alto valor mader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Cambio en el uso del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CuadroTexto"/>
          <p:cNvSpPr/>
          <p:nvPr/>
        </p:nvSpPr>
        <p:spPr>
          <a:xfrm>
            <a:off x="250920" y="549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2. Características de la espe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 CuadroTexto"/>
          <p:cNvSpPr/>
          <p:nvPr/>
        </p:nvSpPr>
        <p:spPr>
          <a:xfrm>
            <a:off x="250920" y="1341360"/>
            <a:ext cx="58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ORDEN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 Coniferal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FAMILIA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 Araucariacea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NOMBRE CIENTIFICO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 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Araucaria angustifo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Planta de Araucaria angustifolia"/>
          <p:cNvPicPr/>
          <p:nvPr/>
        </p:nvPicPr>
        <p:blipFill>
          <a:blip r:embed="rId1"/>
          <a:stretch/>
        </p:blipFill>
        <p:spPr>
          <a:xfrm>
            <a:off x="6300720" y="126828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179280" y="2708280"/>
            <a:ext cx="741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EC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Especie dio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Producción de semillas  anemófilas a los 12 – 15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Especie colonizadora y dominante del estrato arbó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 CuadroTexto"/>
          <p:cNvSpPr/>
          <p:nvPr/>
        </p:nvSpPr>
        <p:spPr>
          <a:xfrm>
            <a:off x="250920" y="4437000"/>
            <a:ext cx="741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GE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ujo genético entre poblaciones dentro de las regiones es mayor que el flujo genético entre poblaciones de regiones distantes. (Sebbenn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cotipos son poblaciones adaptadas a condiciones ambientales específicas, como el clima y el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CuadroTexto"/>
          <p:cNvSpPr/>
          <p:nvPr/>
        </p:nvSpPr>
        <p:spPr>
          <a:xfrm>
            <a:off x="539640" y="47628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DISTRIBUCIÓN GEOGRÁFICA DE LA ESPE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Zona de distribución geográfica de Araucaria angustifolia"/>
          <p:cNvPicPr/>
          <p:nvPr/>
        </p:nvPicPr>
        <p:blipFill>
          <a:blip r:embed="rId1"/>
          <a:stretch/>
        </p:blipFill>
        <p:spPr>
          <a:xfrm>
            <a:off x="324000" y="1628640"/>
            <a:ext cx="3423960" cy="2990880"/>
          </a:xfrm>
          <a:prstGeom prst="rect">
            <a:avLst/>
          </a:prstGeom>
          <a:ln w="0">
            <a:noFill/>
          </a:ln>
        </p:spPr>
      </p:pic>
      <p:sp>
        <p:nvSpPr>
          <p:cNvPr id="66" name="3 CuadroTexto"/>
          <p:cNvSpPr/>
          <p:nvPr/>
        </p:nvSpPr>
        <p:spPr>
          <a:xfrm>
            <a:off x="2050920" y="4221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rone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istribución de poblaciones de Araucaria angustifolia actuales"/>
          <p:cNvPicPr/>
          <p:nvPr/>
        </p:nvPicPr>
        <p:blipFill>
          <a:blip r:embed="rId2"/>
          <a:stretch/>
        </p:blipFill>
        <p:spPr>
          <a:xfrm>
            <a:off x="4716360" y="981000"/>
            <a:ext cx="3733920" cy="3286080"/>
          </a:xfrm>
          <a:prstGeom prst="rect">
            <a:avLst/>
          </a:prstGeom>
          <a:ln w="0">
            <a:noFill/>
          </a:ln>
        </p:spPr>
      </p:pic>
      <p:sp>
        <p:nvSpPr>
          <p:cNvPr id="68" name="5 CuadroTexto"/>
          <p:cNvSpPr/>
          <p:nvPr/>
        </p:nvSpPr>
        <p:spPr>
          <a:xfrm>
            <a:off x="5148360" y="26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DISTRIBUCIÓN DE POB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6 CuadroTexto"/>
          <p:cNvSpPr/>
          <p:nvPr/>
        </p:nvSpPr>
        <p:spPr>
          <a:xfrm>
            <a:off x="5796000" y="4292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1000 Ha, 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Pies remanentes 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5300640"/>
          <a:ext cx="7705800" cy="1346400"/>
        </p:xfrm>
        <a:graphic>
          <a:graphicData uri="http://schemas.openxmlformats.org/drawingml/2006/table">
            <a:tbl>
              <a:tblPr/>
              <a:tblGrid>
                <a:gridCol w="1925640"/>
                <a:gridCol w="1603440"/>
                <a:gridCol w="2249640"/>
                <a:gridCol w="1927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ener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ven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ultos masculi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ultos femeni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8,1 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4 individuo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2,6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8 individuo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,4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9 individuo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9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 individuo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9 Rectángulo"/>
          <p:cNvSpPr/>
          <p:nvPr/>
        </p:nvSpPr>
        <p:spPr>
          <a:xfrm>
            <a:off x="7749360" y="63086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sta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539640" y="476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3. TIPO DE RESTITUCIÓN A RE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3 Conector recto de flecha"/>
          <p:cNvCxnSpPr>
            <a:stCxn id="73" idx="3"/>
          </p:cNvCxnSpPr>
          <p:nvPr/>
        </p:nvCxnSpPr>
        <p:spPr>
          <a:xfrm flipV="1">
            <a:off x="3276360" y="907920"/>
            <a:ext cx="648360" cy="306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5" name="4 Rectángulo"/>
          <p:cNvSpPr/>
          <p:nvPr/>
        </p:nvSpPr>
        <p:spPr>
          <a:xfrm>
            <a:off x="4356000" y="404640"/>
            <a:ext cx="3024360" cy="10083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RE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2771640" y="17431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4.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6 CuadroTexto"/>
          <p:cNvSpPr/>
          <p:nvPr/>
        </p:nvSpPr>
        <p:spPr>
          <a:xfrm>
            <a:off x="250920" y="227664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Establecer una población viable y autosostenible de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 </a:t>
            </a:r>
            <a:r>
              <a:rPr b="1" i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Araucaria angustifolia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 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en el refugio biológico Carapa, Paraguay, considerado zona histórica y geográfica de distribución de la especi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7 Rectángulo"/>
          <p:cNvSpPr/>
          <p:nvPr/>
        </p:nvSpPr>
        <p:spPr>
          <a:xfrm>
            <a:off x="395280" y="3789360"/>
            <a:ext cx="8497800" cy="28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1. Obtener en el plazo de 20 años al menos una población de 500 individuos, 200 en edad de reproducción y 300 juveniles en un área de 5 hectá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2. Asegurar la disponibilidad de material vegetal para las actividades de reint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Verdana"/>
              </a:rPr>
              <a:t>3. Fomentar la capacitación técnica de guardas del refugio Carapa para asegurar el éxito de la re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250920" y="33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5. Selección de la lo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ubicacion_carapa_sudamerica.jpg"/>
          <p:cNvPicPr/>
          <p:nvPr/>
        </p:nvPicPr>
        <p:blipFill>
          <a:blip r:embed="rId1"/>
          <a:stretch/>
        </p:blipFill>
        <p:spPr>
          <a:xfrm>
            <a:off x="395280" y="836640"/>
            <a:ext cx="8088480" cy="547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ubicacion_de_la_cuenca_carapa.png"/>
          <p:cNvPicPr/>
          <p:nvPr/>
        </p:nvPicPr>
        <p:blipFill>
          <a:blip r:embed="rId2"/>
          <a:stretch/>
        </p:blipFill>
        <p:spPr>
          <a:xfrm>
            <a:off x="3419640" y="831960"/>
            <a:ext cx="53719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CuadroTexto"/>
          <p:cNvSpPr/>
          <p:nvPr/>
        </p:nvSpPr>
        <p:spPr>
          <a:xfrm>
            <a:off x="250920" y="33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6. Material de pa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localizacion_de_san_pedro.png"/>
          <p:cNvPicPr/>
          <p:nvPr/>
        </p:nvPicPr>
        <p:blipFill>
          <a:blip r:embed="rId1"/>
          <a:stretch/>
        </p:blipFill>
        <p:spPr>
          <a:xfrm>
            <a:off x="250920" y="1123920"/>
            <a:ext cx="8715240" cy="5629320"/>
          </a:xfrm>
          <a:prstGeom prst="rect">
            <a:avLst/>
          </a:prstGeom>
          <a:ln w="0">
            <a:noFill/>
          </a:ln>
        </p:spPr>
      </p:pic>
      <p:sp>
        <p:nvSpPr>
          <p:cNvPr id="84" name="3 Elipse"/>
          <p:cNvSpPr/>
          <p:nvPr/>
        </p:nvSpPr>
        <p:spPr>
          <a:xfrm>
            <a:off x="7451640" y="1916280"/>
            <a:ext cx="1441440" cy="1368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Bosque Modelo San Pe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395280" y="234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CuadroTexto"/>
          <p:cNvSpPr/>
          <p:nvPr/>
        </p:nvSpPr>
        <p:spPr>
          <a:xfrm>
            <a:off x="4572000" y="119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Verdana"/>
              </a:rPr>
              <a:t>M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6 Rectángulo"/>
          <p:cNvSpPr/>
          <p:nvPr/>
        </p:nvSpPr>
        <p:spPr>
          <a:xfrm>
            <a:off x="611280" y="1268280"/>
            <a:ext cx="2881080" cy="6480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SEM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CuadroTexto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Colecta mate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Ger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3. Cultivo en viv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50920" y="33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7. Proceso de estable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2 Rectángulo"/>
          <p:cNvSpPr/>
          <p:nvPr/>
        </p:nvSpPr>
        <p:spPr>
          <a:xfrm>
            <a:off x="395280" y="1197000"/>
            <a:ext cx="2305080" cy="151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F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De Impla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1 – 5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CuadroTexto"/>
          <p:cNvSpPr/>
          <p:nvPr/>
        </p:nvSpPr>
        <p:spPr>
          <a:xfrm>
            <a:off x="2916360" y="1125360"/>
            <a:ext cx="59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50 individuos al año, durante 4 años consec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Grupos de 10 individuos cada u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Mantenimiento an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Al 4º año: 200 individuos, doble de la población mínima viable Sebbenn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4 Rectángulo"/>
          <p:cNvSpPr/>
          <p:nvPr/>
        </p:nvSpPr>
        <p:spPr>
          <a:xfrm>
            <a:off x="468360" y="3716280"/>
            <a:ext cx="2303280" cy="151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F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De Refu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6 – 15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2916360" y="3500280"/>
            <a:ext cx="590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3 plantaciones de refuerzo de 100 individuos, cada 3 añ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Disposición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den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irregular en el terreno pero tratando de mantener un grupo de la fase 1, rodeado de al menos 2 grupos de la fase 2 para asegurar la diferenciación de es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7 Conector recto de flecha"/>
          <p:cNvCxnSpPr/>
          <p:nvPr/>
        </p:nvCxnSpPr>
        <p:spPr>
          <a:xfrm flipH="1">
            <a:off x="1689840" y="2781360"/>
            <a:ext cx="2520" cy="7927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5" name="8 Conector recto de flecha"/>
          <p:cNvCxnSpPr/>
          <p:nvPr/>
        </p:nvCxnSpPr>
        <p:spPr>
          <a:xfrm flipH="1">
            <a:off x="1692000" y="5300280"/>
            <a:ext cx="2160" cy="57708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6" name="9 Elipse"/>
          <p:cNvSpPr/>
          <p:nvPr/>
        </p:nvSpPr>
        <p:spPr>
          <a:xfrm>
            <a:off x="250920" y="5950080"/>
            <a:ext cx="4033800" cy="69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Control y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CuadroTexto"/>
          <p:cNvSpPr/>
          <p:nvPr/>
        </p:nvSpPr>
        <p:spPr>
          <a:xfrm>
            <a:off x="250920" y="33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8. Plan de evaluación y monito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tabla_de_evaluación_.jpg"/>
          <p:cNvPicPr/>
          <p:nvPr/>
        </p:nvPicPr>
        <p:blipFill>
          <a:blip r:embed="rId1"/>
          <a:stretch/>
        </p:blipFill>
        <p:spPr>
          <a:xfrm>
            <a:off x="250920" y="1125360"/>
            <a:ext cx="8488440" cy="321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formula_ivi.jpg"/>
          <p:cNvPicPr/>
          <p:nvPr/>
        </p:nvPicPr>
        <p:blipFill>
          <a:blip r:embed="rId2"/>
          <a:stretch/>
        </p:blipFill>
        <p:spPr>
          <a:xfrm>
            <a:off x="2604960" y="5578560"/>
            <a:ext cx="3389400" cy="87480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395280" y="4653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Como evaluación general se aplicará el 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Indice de Valor de Importancia (IVI)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Verdana"/>
              </a:rPr>
              <a:t> sugerido por Acosta et al. (2008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8:21:52Z</dcterms:created>
  <dc:creator>toshiba</dc:creator>
  <dc:description/>
  <dc:language>en-US</dc:language>
  <cp:lastModifiedBy>toshiba</cp:lastModifiedBy>
  <dcterms:modified xsi:type="dcterms:W3CDTF">2010-06-16T06:58:34Z</dcterms:modified>
  <cp:revision>14</cp:revision>
  <dc:subject/>
  <dc:title>Diapositiva 1</dc:title>
</cp:coreProperties>
</file>